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9BF-9F5E-4F14-A13F-CAE2780B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269-D410-4FA1-B9D0-65C12601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EA2-0852-497F-9E24-738422C9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09C-CFD8-4D76-8622-A0DACBF9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8A91-6BB5-4C38-B98F-675FBC32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BDF4-97CE-4ED9-8ECB-FA121B0B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6491-8866-4E8C-A6CF-F6E02A21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2929-D817-42E4-9191-668C568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D940-3145-4C25-90FC-08671844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D48C-B4F5-40CC-868D-7C6DAE60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CC3E-3942-4304-8672-CB3A0B01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6AB-7756-4CE5-8898-7940C58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EEB5-C244-4E0E-972A-18B34C6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CECC-58D0-4685-B9D1-B149718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4F8B-75D4-48AB-B54A-F7211781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D6E-2CE0-42F5-A4ED-62FCE424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740D-F984-46C3-8DD0-14D90C54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4D2-1641-48E9-B063-631204C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959-DBAE-4F23-91FA-93EB6BE5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F02-BF34-442C-BBCD-9F23F05A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742-4747-4378-AE91-A7D8122A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097-E94C-47D2-BCDD-8B9D121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E74-1C02-4887-A628-D49D2BA0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E73-65B1-4781-AD9F-0A0E3E2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66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66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71F2-9D0F-43CC-B00B-BB62E1D3A3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00C6-46EA-4460-A0D8-A8CB6330544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66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66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b/bc/Fj&#230;regranitt3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a/a1/IndianGrani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e/ec/Igneous_rock_Santoroni_Greece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arm-up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ow do geologists classify igneous rocks? What two main features do they look for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at is the difference between magma and lava?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bsidian and Pumi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bsidian: magma cools too quickly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no crysta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bsidian and Pumi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mice: dissolved gasses escape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bubble holes (just like opening a soda bottle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loats on water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343400" cy="39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actice Classification: Granit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trusive or extrusiv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File:Fjæregranitt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22860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actice Classification: Basal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trusive or extrusiv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6324480" cy="39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gneous Rocks: Digging Deep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 11, 9/2/09, pg. U1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th Sc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r. Comerf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WBAT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scribe how the two main types of igneous rock for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assify igneous rocks based on crystal siz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ocate igneous rock units around Colorad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Lab Tim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roup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ate tab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scribe igneous rock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st categories of igneous rock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parate rocks into categor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Lab Tim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6600"/>
              </a:buClr>
              <a:buSzPct val="6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iscuss correct answ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6600"/>
              </a:buClr>
              <a:buSzPct val="6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ow do geologists classify igneous rocks?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6600"/>
              </a:buClr>
              <a:buSzPct val="6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swer Question # 5, (a) and (b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gneous Rock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rmed from cooling of magma, either above or below the surface of the Eart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57150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Magma vs. Lav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agma that reaches the surface is called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lava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57913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2 Types of Igneous Rock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ru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ed undergrou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w cool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ew, big crys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File:IndianGranit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3241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2 Types of Igneous Rock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u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ed above grou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st cool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ny, small crys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File:Igneous rock Santoroni Greec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0:03:25Z</dcterms:created>
  <dc:creator>Jimmer Comerford</dc:creator>
  <dc:description/>
  <dc:language>en-US</dc:language>
  <cp:lastModifiedBy>Jimmer Comerford</cp:lastModifiedBy>
  <dcterms:modified xsi:type="dcterms:W3CDTF">2009-09-02T07:05:45Z</dcterms:modified>
  <cp:revision>10</cp:revision>
  <dc:subject/>
  <dc:title>Igneous Rocks</dc:title>
</cp:coreProperties>
</file>